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7077075" cy="8956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7F66-F6CC-43E9-9D3D-D2107697D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DF22-726D-4057-B204-678B52DF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D77B-9061-4EE1-9B94-9D40C4AD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CC34-9AFB-4136-A4C5-A60DB6655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85A4-A2C6-4573-9A71-1D9C79DD9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D63E-DA13-46A5-ADD5-D2FE2417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E814-77E4-47F1-A6D5-B864ADD7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F118-9BEE-4582-A152-301D6520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D7A9-242A-43A1-8EF3-C9B1CD78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59E5-2B1C-478C-A298-370F2892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8782-DD22-42B0-A009-8FAD1166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4AFE-9525-4EF6-998F-69A532F7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DAC4-DA4C-4C72-9AC6-E7A92D64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29C6-2B9B-4A8D-B205-C896DE7D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A259-593D-4FDB-9794-533D48D8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A728-F567-44BC-86D4-4A0C6A43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AB1D-D32C-4B29-AA0E-CFB0ED9EA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3F8BE8-F4D9-4A47-9268-7B6D9E57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7F0450-7E32-4DE0-B7B0-E2648B04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83A4D0-0865-4D72-AD98-D2FE092D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BE7421-584D-4A85-9C58-69F14C26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0A79E7-3E2F-4209-8035-342EBD2F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7985-9122-4B0B-B2F7-722EC772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AABDCB-A366-4B60-97B7-C08A9D19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A7F1B9-2FD8-4C53-B1CB-A5616E58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FC7C84-4849-4C63-AA22-7F2783AE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6E3322-6217-4BAF-A957-40BB130E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F15395-57C3-4ECF-8324-517C16E5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EE1417-8464-48FF-8EED-02261BD8A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AC5562-53D1-414A-AFBC-0F56D99C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72A63-6DCF-4AFF-A046-B9CA88F3E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68D8A-C67D-40B7-AA9F-C1C48D11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79E93-4C1F-40FA-B1B2-FC3B34C3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2F87-B7C3-4A80-9040-1B2355D1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F655C-1527-487B-968D-2FAA87CD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BF4CC-E1BB-4941-B271-D73F1FD6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C8AFD-CF03-4025-A150-9F359E7C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04DA3-787A-4711-81E2-3277EF79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A1CB6-4C74-49D8-B6A7-3CD82908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98703-7B1F-4BBD-B788-1EBB96C0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CD93A-815D-442D-A365-504DF1E2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81ABA-03C8-4EE2-9BB7-7B4061EC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70229-90CF-4C55-9CF8-9A61BF825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B8BC4E-FC5E-4C24-99C9-380E040D6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6C25-7F28-4280-990B-0F35F377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D737A0-9492-45F3-94FA-CA687DDE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F2760B-8BD2-4238-864B-E583FE33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1AA86C-454B-4726-9009-574EA538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3E206B-CB9A-42E3-8FCE-DE938E5C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AEB47C-E463-4CA5-85F4-EBCCFABA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699D43-FF6D-4589-9031-20007115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3B2098-B260-4316-B0C9-C1376535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B43D9B-2519-4679-BAA8-5E259A51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6E07F9-6258-4C5C-9B57-4E55D800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8841A4-F3B8-4C63-B929-0B2D69675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6A1C-CE9B-4446-8965-D98AD614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558D38-21D3-4645-823C-56B3D4789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B8BDAE-D660-4306-AE8C-1F3DD84D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066694-7115-4F5E-8671-5C5167C8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5328F2-80B5-48C2-874C-020CCB7E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89B2FD-B257-4D05-A22E-182B432C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955567-84B9-4F85-A851-04409DA1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35E083-11AB-4C14-828A-526692D6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1B1D9E-6D21-4195-A4B2-0EAD9261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234A07-992A-46FD-887E-21D573DE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B20D7D-AE13-42D5-BE47-20393A17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4542-BA51-4424-920D-6FAA4A7A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67C782-EC65-4A69-8A96-F3B08903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1224A6-1C25-4E80-9C38-CB8AE485C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FCA599-9683-4809-96D4-3FF618C28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000C65-496F-4F84-9A90-4DC6482B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CB00B6-CCCD-4370-825D-D23C50A3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F32020-A155-4E9E-BFC5-A9E96B3A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08C94D-A32C-4B47-99AC-FB98C04D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EBF7AC-9CBC-421C-8112-8DAD9643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E6BF02-7D30-473D-A7B5-E4B61872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A92177-E53E-4A13-80C2-3E3E1FD4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580E-9022-437D-B538-E1584A76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6D5FD3-25A4-4C16-8FE1-57ADA667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5A7F4A-A2D7-46CB-8B43-CC9817A0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BC7198-42D2-4F68-AC81-D15D045C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F654B5-D7E1-472A-81E7-59DEA5489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2DCD9F-959C-4128-8F4F-52F76F05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085C-A8BB-4474-B9C9-E234EB6A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1438-1619-4903-9292-DBB17137DD3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67B8-5F66-499C-90A0-28C50EB5D58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5B07-8FE0-4106-B57A-1F26E987CB1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99D3-E4CF-4B3A-B2FC-59C83B9589C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FA71-FF55-4766-92FE-B04CEEAA174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8AF3-CE4E-490B-B44A-3BC1BCCB3D4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3662-8E05-49C5-8C89-F4037C9CA14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ebdesignerdepot.com/2009/05/100-really-creative-business-cards/" TargetMode="External"/><Relationship Id="rId2" Type="http://schemas.openxmlformats.org/officeDocument/2006/relationships/hyperlink" Target="http://www.coroflot.com/creativeseeds/2008/06/seven_other_kinds_of_business_1.asp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13712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DESIGN PRINCIPL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Chaz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ELEMENTS SHOULD ON BUSINESS CAR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. Your Na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. Your Company Na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. Addres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. Phone Numb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 Email Addres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ELEMENTS SHOULD ON BUSINESS CAR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 Web Site Addres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7. Your Titl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8. Quick Rundown of your Busines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9. Your Log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0. Some Attractive Stuf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ORE INFORM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://www.webdesignerdepot.com/2009/05/100-really-creative-business-cards/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www.coroflot.com/creativeseeds/2008/06/seven_other_kinds_of_business_1.as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Chaz Wu</dc:creator>
  <dc:description/>
  <dc:language>en-US</dc:language>
  <cp:lastModifiedBy>Chaz Wu</cp:lastModifiedBy>
  <dcterms:modified xsi:type="dcterms:W3CDTF">2010-11-20T02:28:24Z</dcterms:modified>
  <cp:revision>3</cp:revision>
  <dc:subject/>
  <dc:title>Design Principles</dc:title>
</cp:coreProperties>
</file>